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A59A-F640-4775-A467-36134A0BF9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197D-2C69-4E0F-B045-3DFEA56B2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97E-0ED9-4E6B-B1A1-D5ED3281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EFC-2301-47AF-926A-7252C5A4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67A10-B63B-4CFC-8250-4D731E5B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6589C-525C-484A-9C44-434B5315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DDDB0-BFA1-4FF6-84A4-B7CD5C6D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DCED2-A0A7-469D-BF33-9812A12A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0F511-025F-4E2C-A424-5F99977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6B893-A5CB-45B8-9E1D-129D605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313DB-8063-4C69-AB75-B0D1BD12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D8BA0-D05F-4A74-A5E8-AD0F46FB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36065-427B-4182-9A6C-C98232D1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885-BC48-4955-9B48-6ACD2BA6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D6F-D303-4707-9ADF-19663DDD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438C-7D4F-42C3-8326-B9D5D14D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9B33-556D-4C29-8A6A-B20EC364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4BDD-E63E-4148-8073-C26A388F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BA9F-A23A-419C-8460-775B65AF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8186-03B2-4DB8-B850-CC14D59E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A38B-0713-432C-90E1-9C1B421F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A99B-194E-4421-A1FA-A8A8209A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D9C-213F-456A-B2C5-C68993EA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0C27-7FC8-40A7-AAD4-E7F4F88F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898D-F527-4664-BC24-8F4E60F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29CB-926B-4096-8D7F-0EFD14E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F9B8-D2DC-4AA0-B200-22126C65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AF39-E583-40CF-800F-0B2E15D7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2C04B-238E-483C-8AE5-41D44D3B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2DC3-0066-4EFC-96F5-2577221B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54B7-7FE6-46DF-B44F-D1332065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A1B3-196B-474E-9DFA-632F8D95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023E2-4610-412F-9E5B-B90981D7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21F-B54A-4B55-9B1D-E24BBB14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4CC6-D930-443F-8A90-B4009DE8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67173-A88F-47FA-86F1-31D194F7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D06F-AFA2-49FB-BDA4-821F16B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FB67-4996-40FA-B100-11165BCA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B576-D262-43DE-A093-FCC94101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1B04-E47D-4EB1-A8D7-18CF8D51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0513-2B55-48FD-B125-E45B02AF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B0B52-B276-4502-9ED5-9B8DA2B4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25B7-16A6-444A-B325-C8243AEC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12E39-04BE-447C-8714-EBC7EF5F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E0E-9ED1-4928-B328-A358FAAE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9DE0-02D2-4FF1-890E-4E9264F0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54310-11D5-4A48-881E-E32703EB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89EC-05A9-46D3-82DC-500E49B6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47226-C5AA-4446-AB24-3B2D36C7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2FF09-0A60-4164-822F-9B853C86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CD0D-B00B-4442-B205-82558DAE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72FB-4EB5-4C03-9D19-3499237D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C8E77-38FF-4653-B1A0-EE0B90AD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606B-4947-483E-B869-D823507F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9C85D-0C6A-42F3-A1C8-82AE3FCC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9D4-2DF8-4D60-A197-E2F5BCE8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9EA56-1B2B-4939-BA8A-C1718865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F9FD3-563E-4925-AE53-E8A76714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7FACE-747B-4B4A-9DE9-ED6C79E1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3B94-0082-44B5-951F-35C6DBF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6F2E9-D6D4-41C8-B929-07D3578A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4FDA2-C233-43DA-9203-7130241F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1CE45-1C36-48C3-857D-8AF4EFF6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71F90-E76D-499C-A055-BB1EADC3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2F5C4-0FF3-46E2-B299-F667D5BF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4334B-FC1D-4206-88C5-34A52C65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E45-0EF3-4EE7-9441-89EA8EE9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0955F-E168-4CE2-BCAB-634AADCF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2E2A5-FEB4-4590-B445-3CD1C8EB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48EE5-4B5B-46A9-A5C0-D1F6B600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74B6D-24CF-4027-88DB-CC0B7F0E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BBE39-9DFE-485D-B5B5-EAFADB73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DDE2B-15F4-4EC1-9971-630AB283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5EA13-D945-4210-9001-1D65CDB3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34A3F-E44A-4712-B1BC-6DCDF829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FC78F-5A61-487E-A8A5-CCEB2C81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1CC5-D075-4902-86F2-FB64C3B1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172-CFD1-4B47-AF0C-F15F2121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469A1-E8D8-4A4A-9EB2-29DAFCC1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3DB4F-C5CA-4ED9-B7D8-A1E41E71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9B7EB-70FB-45A7-90AD-8380695B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50C4D-2986-43EF-8143-17858F45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5783C-BB62-4975-8247-320FCE3A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8BF98-7F33-402B-98BC-90E32526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55879-0BA7-4E45-924F-1B3AD6EC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A68C-42A7-49D4-AAC7-078CACB4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D5C8C-9E29-46CB-85EC-ABAB795D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3C91F-FDC4-40AF-819A-F22E5F9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715-7A52-45E4-BA12-65A7A7DB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EBC23-E03D-4DC2-819A-F8DF79B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B52F3-43E8-49C2-8585-FEEA7BE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D75B0-CC87-46EE-8CA7-E9BA04AE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4F7FC-EC5E-4DBA-BBFE-6481C755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53976-486D-46E4-B1BB-BBF171BB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53A10-9874-42ED-AC42-37CA4773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5B2F-78E2-434A-A2AB-4CDD1FE6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091B5-3A3C-4990-A584-0A9F6DEC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2BB0C-B4D0-4B7F-8454-B965467C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8C14C-B1CD-4489-8CD2-DA447F1E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36A-299F-471D-BCA3-0F74990D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859F0-ED42-4F76-9B4D-47BE81CD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35328-C35E-4599-840F-B6A34FD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19138-EAD7-4822-98C8-CEDB5E8A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946D3-30ED-4260-9BF9-9854A9DE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BCA91-8D4B-4EFC-B718-6B0AAEDB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07069-B8F7-4C41-922C-2EB9B254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F437D-8F1B-4271-AF02-3F33B25C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CE0B1-C0A7-4B72-B249-98A8A0A0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F5AF6-4AA2-4817-804B-792D20DF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939D5-FB4C-4CA9-9C86-B8243706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0DCC-471E-4B11-BD89-91F72704FA60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CE1D-2842-455B-9590-BE14FE437D73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0DCD-0B47-4719-9ADB-9E7171D2BFB6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9908-CFCF-465E-AC98-75446D7877B7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5BB6-4D6F-4B16-82E5-2A58C7EF7500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32AC-5428-4F57-B5C9-FC28DE3CC41E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B89B-5123-4EF7-B956-1E03FAADEB32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0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0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A4E3-6CB7-4E27-8B63-184D425AD4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0918-971F-4762-82A2-3D3D0F6C21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4"/>
          <p:cNvSpPr/>
          <p:nvPr/>
        </p:nvSpPr>
        <p:spPr>
          <a:xfrm>
            <a:off x="4067280" y="5805360"/>
            <a:ext cx="47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0033"/>
                </a:solidFill>
                <a:uFillTx/>
                <a:latin typeface="Arial"/>
              </a:rPr>
              <a:t>Тема: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 «Логарифмы и их свой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16000" y="191628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0033"/>
                </a:solidFill>
                <a:latin typeface="Harlow Solid Italic"/>
              </a:rPr>
              <a:t>игра     Карусель</a:t>
            </a:r>
            <a:r>
              <a:rPr b="0" lang="en-US" sz="7200" spc="-1" strike="noStrike">
                <a:solidFill>
                  <a:srgbClr val="330033"/>
                </a:solidFill>
                <a:latin typeface="Harlow Solid Ital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276720" y="3141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324000" y="5805360"/>
                <a:ext cx="9126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TextBox 34">
            <a:hlinkClick r:id="" action="ppaction://hlinkshowjump?jump=nextslide"/>
          </p:cNvPr>
          <p:cNvSpPr/>
          <p:nvPr/>
        </p:nvSpPr>
        <p:spPr>
          <a:xfrm>
            <a:off x="250920" y="29242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5">
            <a:hlinkClick r:id="rId1" action="ppaction://hlinksldjump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6">
            <a:hlinkClick r:id="" action="ppaction://hlinkshowjump?jump=nextslide"/>
          </p:cNvPr>
          <p:cNvSpPr/>
          <p:nvPr/>
        </p:nvSpPr>
        <p:spPr>
          <a:xfrm>
            <a:off x="1332000" y="105264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5"/>
              <p:cNvSpPr txBox="1"/>
              <p:nvPr/>
            </p:nvSpPr>
            <p:spPr>
              <a:xfrm>
                <a:off x="1619280" y="566100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6"/>
              <p:cNvSpPr txBox="1"/>
              <p:nvPr/>
            </p:nvSpPr>
            <p:spPr>
              <a:xfrm>
                <a:off x="179280" y="4379760"/>
                <a:ext cx="8589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43">
            <a:hlinkClick r:id="" action="ppaction://hlinkshowjump?jump=nextslide"/>
          </p:cNvPr>
          <p:cNvSpPr/>
          <p:nvPr/>
        </p:nvSpPr>
        <p:spPr>
          <a:xfrm>
            <a:off x="971640" y="2421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7"/>
              <p:cNvSpPr txBox="1"/>
              <p:nvPr/>
            </p:nvSpPr>
            <p:spPr>
              <a:xfrm>
                <a:off x="1258920" y="18446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2"/>
              <p:cNvSpPr txBox="1"/>
              <p:nvPr/>
            </p:nvSpPr>
            <p:spPr>
              <a:xfrm>
                <a:off x="5072040" y="3071880"/>
                <a:ext cx="1500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6" name="TextBox 31"/>
          <p:cNvSpPr/>
          <p:nvPr/>
        </p:nvSpPr>
        <p:spPr>
          <a:xfrm>
            <a:off x="395280" y="26028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250920" y="558972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9" name="TextBox 34">
            <a:hlinkClick r:id="" action="ppaction://hlinkshowjump?jump=nextslide"/>
          </p:cNvPr>
          <p:cNvSpPr/>
          <p:nvPr/>
        </p:nvSpPr>
        <p:spPr>
          <a:xfrm>
            <a:off x="32400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6">
            <a:hlinkClick r:id="rId1" action="ppaction://hlinksldjump"/>
          </p:cNvPr>
          <p:cNvSpPr/>
          <p:nvPr/>
        </p:nvSpPr>
        <p:spPr>
          <a:xfrm>
            <a:off x="1258920" y="9079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7">
            <a:hlinkClick r:id="" action="ppaction://hlinkshowjump?jump=nextslide"/>
          </p:cNvPr>
          <p:cNvSpPr/>
          <p:nvPr/>
        </p:nvSpPr>
        <p:spPr>
          <a:xfrm>
            <a:off x="428760" y="24354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5"/>
              <p:cNvSpPr txBox="1"/>
              <p:nvPr/>
            </p:nvSpPr>
            <p:spPr>
              <a:xfrm>
                <a:off x="1547640" y="551664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6"/>
              <p:cNvSpPr txBox="1"/>
              <p:nvPr/>
            </p:nvSpPr>
            <p:spPr>
              <a:xfrm>
                <a:off x="179280" y="443700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6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7"/>
              <p:cNvSpPr txBox="1"/>
              <p:nvPr/>
            </p:nvSpPr>
            <p:spPr>
              <a:xfrm>
                <a:off x="140328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10"/>
              <p:cNvSpPr txBox="1"/>
              <p:nvPr/>
            </p:nvSpPr>
            <p:spPr>
              <a:xfrm>
                <a:off x="7572240" y="3214800"/>
                <a:ext cx="116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3"/>
              <p:cNvSpPr txBox="1"/>
              <p:nvPr/>
            </p:nvSpPr>
            <p:spPr>
              <a:xfrm>
                <a:off x="5000760" y="3071880"/>
                <a:ext cx="1585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3"/>
              <p:cNvSpPr txBox="1"/>
              <p:nvPr/>
            </p:nvSpPr>
            <p:spPr>
              <a:xfrm>
                <a:off x="250920" y="566100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9" name="TextBox 34">
            <a:hlinkClick r:id="" action="ppaction://hlinkshowjump?jump=nextslide"/>
          </p:cNvPr>
          <p:cNvSpPr/>
          <p:nvPr/>
        </p:nvSpPr>
        <p:spPr>
          <a:xfrm>
            <a:off x="250920" y="314172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4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7">
            <a:hlinkClick r:id="rId1" action="ppaction://hlinksldjump"/>
          </p:cNvPr>
          <p:cNvSpPr/>
          <p:nvPr/>
        </p:nvSpPr>
        <p:spPr>
          <a:xfrm>
            <a:off x="25092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1547640" y="558972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4">
            <a:hlinkClick r:id="" action="ppaction://hlinkshowjump?jump=nextslide"/>
          </p:cNvPr>
          <p:cNvSpPr/>
          <p:nvPr/>
        </p:nvSpPr>
        <p:spPr>
          <a:xfrm>
            <a:off x="179280" y="18446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3"/>
              <p:cNvSpPr txBox="1"/>
              <p:nvPr/>
            </p:nvSpPr>
            <p:spPr>
              <a:xfrm>
                <a:off x="3571920" y="4944960"/>
                <a:ext cx="11430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4"/>
              <p:cNvSpPr txBox="1"/>
              <p:nvPr/>
            </p:nvSpPr>
            <p:spPr>
              <a:xfrm>
                <a:off x="5000760" y="3214800"/>
                <a:ext cx="15714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3"/>
              <p:cNvSpPr txBox="1"/>
              <p:nvPr/>
            </p:nvSpPr>
            <p:spPr>
              <a:xfrm>
                <a:off x="250920" y="5805360"/>
                <a:ext cx="9126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0" name="TextBox 34">
            <a:hlinkClick r:id="" action="ppaction://hlinkshowjump?jump=nextslide"/>
          </p:cNvPr>
          <p:cNvSpPr/>
          <p:nvPr/>
        </p:nvSpPr>
        <p:spPr>
          <a:xfrm>
            <a:off x="179280" y="299736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5">
            <a:hlinkClick r:id="" action="ppaction://hlinkshowjump?jump=nextslide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6">
            <a:hlinkClick r:id="" action="ppaction://hlinkshowjump?jump=nextslide"/>
          </p:cNvPr>
          <p:cNvSpPr/>
          <p:nvPr/>
        </p:nvSpPr>
        <p:spPr>
          <a:xfrm>
            <a:off x="135720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6"/>
              <p:cNvSpPr txBox="1"/>
              <p:nvPr/>
            </p:nvSpPr>
            <p:spPr>
              <a:xfrm>
                <a:off x="179280" y="450864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13"/>
              <p:cNvSpPr txBox="1"/>
              <p:nvPr/>
            </p:nvSpPr>
            <p:spPr>
              <a:xfrm>
                <a:off x="3571920" y="4944960"/>
                <a:ext cx="11430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14"/>
              <p:cNvSpPr txBox="1"/>
              <p:nvPr/>
            </p:nvSpPr>
            <p:spPr>
              <a:xfrm>
                <a:off x="2857680" y="3214800"/>
                <a:ext cx="11430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15"/>
              <p:cNvSpPr txBox="1"/>
              <p:nvPr/>
            </p:nvSpPr>
            <p:spPr>
              <a:xfrm>
                <a:off x="5143680" y="3000240"/>
                <a:ext cx="12855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Прямая соединительная линия 6"/>
          <p:cNvSpPr/>
          <p:nvPr/>
        </p:nvSpPr>
        <p:spPr>
          <a:xfrm flipV="1">
            <a:off x="4572000" y="1714680"/>
            <a:ext cx="144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ая соединительная линия 7"/>
          <p:cNvSpPr/>
          <p:nvPr/>
        </p:nvSpPr>
        <p:spPr>
          <a:xfrm flipV="1">
            <a:off x="6000120" y="1500120"/>
            <a:ext cx="57132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ая соединительная линия 9"/>
          <p:cNvSpPr/>
          <p:nvPr/>
        </p:nvSpPr>
        <p:spPr>
          <a:xfrm flipV="1">
            <a:off x="628668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ая соединительная линия 12"/>
          <p:cNvSpPr/>
          <p:nvPr/>
        </p:nvSpPr>
        <p:spPr>
          <a:xfrm flipV="1">
            <a:off x="4572000" y="4428720"/>
            <a:ext cx="144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ая соединительная линия 14"/>
          <p:cNvSpPr/>
          <p:nvPr/>
        </p:nvSpPr>
        <p:spPr>
          <a:xfrm flipV="1">
            <a:off x="2500200" y="46432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ая соединительная линия 17"/>
          <p:cNvSpPr/>
          <p:nvPr/>
        </p:nvSpPr>
        <p:spPr>
          <a:xfrm flipV="1">
            <a:off x="192888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ая соединительная линия 18"/>
          <p:cNvSpPr/>
          <p:nvPr/>
        </p:nvSpPr>
        <p:spPr>
          <a:xfrm>
            <a:off x="6143760" y="4714920"/>
            <a:ext cx="64296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ая соединительная линия 20"/>
          <p:cNvSpPr/>
          <p:nvPr/>
        </p:nvSpPr>
        <p:spPr>
          <a:xfrm>
            <a:off x="2428920" y="157176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22"/>
          <p:cNvSpPr/>
          <p:nvPr/>
        </p:nvSpPr>
        <p:spPr>
          <a:xfrm>
            <a:off x="642924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23"/>
          <p:cNvSpPr/>
          <p:nvPr/>
        </p:nvSpPr>
        <p:spPr>
          <a:xfrm>
            <a:off x="3929040" y="35712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24"/>
          <p:cNvSpPr/>
          <p:nvPr/>
        </p:nvSpPr>
        <p:spPr>
          <a:xfrm>
            <a:off x="135720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25"/>
          <p:cNvSpPr/>
          <p:nvPr/>
        </p:nvSpPr>
        <p:spPr>
          <a:xfrm>
            <a:off x="72867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26"/>
          <p:cNvSpPr/>
          <p:nvPr/>
        </p:nvSpPr>
        <p:spPr>
          <a:xfrm>
            <a:off x="500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27"/>
          <p:cNvSpPr/>
          <p:nvPr/>
        </p:nvSpPr>
        <p:spPr>
          <a:xfrm>
            <a:off x="66438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28"/>
          <p:cNvSpPr/>
          <p:nvPr/>
        </p:nvSpPr>
        <p:spPr>
          <a:xfrm>
            <a:off x="3929040" y="52862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29"/>
          <p:cNvSpPr/>
          <p:nvPr/>
        </p:nvSpPr>
        <p:spPr>
          <a:xfrm>
            <a:off x="13572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8"/>
              <p:cNvSpPr txBox="1"/>
              <p:nvPr/>
            </p:nvSpPr>
            <p:spPr>
              <a:xfrm>
                <a:off x="407196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Object 9"/>
              <p:cNvSpPr txBox="1"/>
              <p:nvPr/>
            </p:nvSpPr>
            <p:spPr>
              <a:xfrm>
                <a:off x="6572160" y="714240"/>
                <a:ext cx="1000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10"/>
              <p:cNvSpPr txBox="1"/>
              <p:nvPr/>
            </p:nvSpPr>
            <p:spPr>
              <a:xfrm>
                <a:off x="73328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11"/>
              <p:cNvSpPr txBox="1"/>
              <p:nvPr/>
            </p:nvSpPr>
            <p:spPr>
              <a:xfrm>
                <a:off x="6715080" y="5748480"/>
                <a:ext cx="1214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12"/>
              <p:cNvSpPr txBox="1"/>
              <p:nvPr/>
            </p:nvSpPr>
            <p:spPr>
              <a:xfrm>
                <a:off x="4071960" y="5756400"/>
                <a:ext cx="1071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13"/>
              <p:cNvSpPr txBox="1"/>
              <p:nvPr/>
            </p:nvSpPr>
            <p:spPr>
              <a:xfrm>
                <a:off x="1428840" y="5659560"/>
                <a:ext cx="11430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14"/>
              <p:cNvSpPr txBox="1"/>
              <p:nvPr/>
            </p:nvSpPr>
            <p:spPr>
              <a:xfrm>
                <a:off x="571680" y="3214800"/>
                <a:ext cx="11430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5"/>
              <p:cNvSpPr txBox="1"/>
              <p:nvPr/>
            </p:nvSpPr>
            <p:spPr>
              <a:xfrm>
                <a:off x="1500120" y="571680"/>
                <a:ext cx="995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5" name="TextBox 51">
            <a:hlinkClick r:id="" action="ppaction://hlinkshowjump?jump=nextslide"/>
          </p:cNvPr>
          <p:cNvSpPr/>
          <p:nvPr/>
        </p:nvSpPr>
        <p:spPr>
          <a:xfrm>
            <a:off x="2857680" y="292896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ФИНИ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Устно или письменно выполнит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Выполнение задания начните со  ст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Найдите полученный ответ слева в столбце и нажмите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Если ответ окажется правильным, то во внутреннем круге появится нов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2"/>
              <p:cNvSpPr txBox="1"/>
              <p:nvPr/>
            </p:nvSpPr>
            <p:spPr>
              <a:xfrm>
                <a:off x="5214960" y="3286080"/>
                <a:ext cx="1111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250920" y="566100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TextBox 34">
            <a:hlinkClick r:id="" action="ppaction://hlinkshowjump?jump=nextslide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5">
            <a:hlinkClick r:id="" action="ppaction://hlinkshowjump?jump=nextslide"/>
          </p:cNvPr>
          <p:cNvSpPr/>
          <p:nvPr/>
        </p:nvSpPr>
        <p:spPr>
          <a:xfrm>
            <a:off x="1476360" y="45086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5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6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7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TextBox 41">
            <a:hlinkClick r:id="" action="ppaction://hlinkshowjump?jump=nextslide"/>
          </p:cNvPr>
          <p:cNvSpPr/>
          <p:nvPr/>
        </p:nvSpPr>
        <p:spPr>
          <a:xfrm>
            <a:off x="111600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8"/>
              <p:cNvSpPr txBox="1"/>
              <p:nvPr/>
            </p:nvSpPr>
            <p:spPr>
              <a:xfrm>
                <a:off x="1233360" y="16430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324000" y="631800"/>
                <a:ext cx="6048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2">
            <a:hlinkClick r:id="rId1" action="ppaction://hlinksldjump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4"/>
              <p:cNvSpPr txBox="1"/>
              <p:nvPr/>
            </p:nvSpPr>
            <p:spPr>
              <a:xfrm>
                <a:off x="250920" y="573264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TextBox 34">
            <a:hlinkClick r:id="" action="ppaction://hlinkshowjump?jump=nextslide"/>
          </p:cNvPr>
          <p:cNvSpPr/>
          <p:nvPr/>
        </p:nvSpPr>
        <p:spPr>
          <a:xfrm>
            <a:off x="179280" y="306864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5">
            <a:hlinkClick r:id="" action="ppaction://hlinkshowjump?jump=nextslide"/>
          </p:cNvPr>
          <p:cNvSpPr/>
          <p:nvPr/>
        </p:nvSpPr>
        <p:spPr>
          <a:xfrm>
            <a:off x="1547640" y="486900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6">
            <a:hlinkClick r:id="" action="ppaction://hlinkshowjump?jump=nextslide"/>
          </p:cNvPr>
          <p:cNvSpPr/>
          <p:nvPr/>
        </p:nvSpPr>
        <p:spPr>
          <a:xfrm>
            <a:off x="1357200" y="836640"/>
            <a:ext cx="15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7">
            <a:hlinkClick r:id="" action="ppaction://hlinkshowjump?jump=nextslide"/>
          </p:cNvPr>
          <p:cNvSpPr/>
          <p:nvPr/>
        </p:nvSpPr>
        <p:spPr>
          <a:xfrm>
            <a:off x="250920" y="256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5"/>
              <p:cNvSpPr txBox="1"/>
              <p:nvPr/>
            </p:nvSpPr>
            <p:spPr>
              <a:xfrm>
                <a:off x="1476360" y="4149720"/>
                <a:ext cx="909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6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7"/>
              <p:cNvSpPr txBox="1"/>
              <p:nvPr/>
            </p:nvSpPr>
            <p:spPr>
              <a:xfrm>
                <a:off x="250920" y="4724280"/>
                <a:ext cx="714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6" name="TextBox 41">
            <a:hlinkClick r:id="" action="ppaction://hlinkshowjump?jump=nextslide"/>
          </p:cNvPr>
          <p:cNvSpPr/>
          <p:nvPr/>
        </p:nvSpPr>
        <p:spPr>
          <a:xfrm>
            <a:off x="900000" y="3141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42">
            <a:hlinkClick r:id="" action="ppaction://hlinkshowjump?jump=nextslide"/>
          </p:cNvPr>
          <p:cNvSpPr/>
          <p:nvPr/>
        </p:nvSpPr>
        <p:spPr>
          <a:xfrm>
            <a:off x="179280" y="40053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3">
            <a:hlinkClick r:id="" action="ppaction://hlinkshowjump?jump=nextslide"/>
          </p:cNvPr>
          <p:cNvSpPr/>
          <p:nvPr/>
        </p:nvSpPr>
        <p:spPr>
          <a:xfrm>
            <a:off x="104292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4">
            <a:hlinkClick r:id="" action="ppaction://hlinkshowjump?jump=nextslide"/>
          </p:cNvPr>
          <p:cNvSpPr/>
          <p:nvPr/>
        </p:nvSpPr>
        <p:spPr>
          <a:xfrm>
            <a:off x="179280" y="1857240"/>
            <a:ext cx="12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8"/>
              <p:cNvSpPr txBox="1"/>
              <p:nvPr/>
            </p:nvSpPr>
            <p:spPr>
              <a:xfrm>
                <a:off x="1258920" y="1700280"/>
                <a:ext cx="13683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9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0"/>
              <p:cNvSpPr txBox="1"/>
              <p:nvPr/>
            </p:nvSpPr>
            <p:spPr>
              <a:xfrm>
                <a:off x="5072040" y="3071880"/>
                <a:ext cx="1428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179280" y="5732640"/>
                <a:ext cx="912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5" name="TextBox 34"/>
          <p:cNvSpPr/>
          <p:nvPr/>
        </p:nvSpPr>
        <p:spPr>
          <a:xfrm>
            <a:off x="25092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6">
            <a:hlinkClick r:id="" action="ppaction://hlinkshowjump?jump=nextslide"/>
          </p:cNvPr>
          <p:cNvSpPr/>
          <p:nvPr/>
        </p:nvSpPr>
        <p:spPr>
          <a:xfrm>
            <a:off x="128592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7">
            <a:hlinkClick r:id="" action="ppaction://hlinkshowjump?jump=nextslide"/>
          </p:cNvPr>
          <p:cNvSpPr/>
          <p:nvPr/>
        </p:nvSpPr>
        <p:spPr>
          <a:xfrm>
            <a:off x="179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2" name="TextBox 41">
            <a:hlinkClick r:id="" action="ppaction://hlinkshowjump?jump=nextslide"/>
          </p:cNvPr>
          <p:cNvSpPr/>
          <p:nvPr/>
        </p:nvSpPr>
        <p:spPr>
          <a:xfrm>
            <a:off x="971640" y="3068640"/>
            <a:ext cx="19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7"/>
              <p:cNvSpPr txBox="1"/>
              <p:nvPr/>
            </p:nvSpPr>
            <p:spPr>
              <a:xfrm>
                <a:off x="1187280" y="1700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0"/>
              <p:cNvSpPr txBox="1"/>
              <p:nvPr/>
            </p:nvSpPr>
            <p:spPr>
              <a:xfrm>
                <a:off x="5000760" y="3143160"/>
                <a:ext cx="15714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9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2">
            <a:hlinkClick r:id="" action="ppaction://hlinkshowjump?jump=nextslide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395280" y="5805360"/>
                <a:ext cx="912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TextBox 34">
            <a:hlinkClick r:id="rId1" action="ppaction://hlinksldjump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7">
            <a:hlinkClick r:id="" action="ppaction://hlinkshowjump?jump=nextslide"/>
          </p:cNvPr>
          <p:cNvSpPr/>
          <p:nvPr/>
        </p:nvSpPr>
        <p:spPr>
          <a:xfrm>
            <a:off x="179280" y="2565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5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6"/>
              <p:cNvSpPr txBox="1"/>
              <p:nvPr/>
            </p:nvSpPr>
            <p:spPr>
              <a:xfrm>
                <a:off x="250920" y="4581360"/>
                <a:ext cx="7142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9" name="TextBox 41">
            <a:hlinkClick r:id="" action="ppaction://hlinkshowjump?jump=nextslide"/>
          </p:cNvPr>
          <p:cNvSpPr/>
          <p:nvPr/>
        </p:nvSpPr>
        <p:spPr>
          <a:xfrm>
            <a:off x="97164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4">
            <a:hlinkClick r:id="" action="ppaction://hlinkshowjump?jump=nextslide"/>
          </p:cNvPr>
          <p:cNvSpPr/>
          <p:nvPr/>
        </p:nvSpPr>
        <p:spPr>
          <a:xfrm>
            <a:off x="179280" y="19890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7"/>
              <p:cNvSpPr txBox="1"/>
              <p:nvPr/>
            </p:nvSpPr>
            <p:spPr>
              <a:xfrm>
                <a:off x="1332000" y="1916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7572240" y="3214800"/>
                <a:ext cx="116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5013360" y="3143160"/>
                <a:ext cx="1487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16:04Z</dcterms:created>
  <dc:creator>1</dc:creator>
  <dc:description/>
  <dc:language>en-US</dc:language>
  <cp:lastModifiedBy>Попов Леонид</cp:lastModifiedBy>
  <dcterms:modified xsi:type="dcterms:W3CDTF">2012-08-27T13:22:42Z</dcterms:modified>
  <cp:revision>36</cp:revision>
  <dc:subject/>
  <dc:title>Карусель</dc:title>
</cp:coreProperties>
</file>